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5FB-E087-474F-9CC9-005C71A8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E37-C888-4A11-B55A-25DB076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876-CE2B-4B8C-85D6-409F4B5F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013-8183-4E53-B85B-651B525B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45F-ACFB-4999-92FD-6A7144AE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A022-134A-4265-84BE-2FB6384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CA5-2DB9-4BB0-A0F7-71FDA152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4CD3-4C70-4980-BCED-EE65C634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4CF2-AD7F-4757-9943-8C9912A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26C-0BA3-4F11-A6FB-DE3F479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078-95D6-4319-B42B-B87C758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6CB-E572-4F2D-BFE6-512401C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337-4AAF-42CB-AF22-54FEAA2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77CE-CA65-4A03-8A15-EE648E5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D87-AE9C-43C7-9B53-E4C94CC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C81E-EA5B-428A-8DBE-71EA1281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C08-73AC-43D4-B701-CE6819E3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35F-6241-49DC-B556-865499B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E0B-DCDC-40AD-90DE-1ABC1EE2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820-FE9C-4533-A359-F92D2A07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8E7-483F-4DA7-B72B-FA947FAB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B3E-00C7-4596-B17C-A2BE115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6A4-52E0-43CA-B218-15BD367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970-5E99-4EF0-8401-58E12FE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9DB-06E2-4EF0-BB35-11F03D1FF8AE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797-60D8-4676-ADA0-599157144B56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brainpop.com/math/numbersandoperations/decimals/" TargetMode="External"/><Relationship Id="rId3" Type="http://schemas.openxmlformats.org/officeDocument/2006/relationships/hyperlink" Target="http://www.brainpop.com/math/numbersandoperations/decimal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6c0c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Opener:  Estimate the answer to each problem below.</a:t>
            </a:r>
            <a:endParaRPr b="0" lang="en-US" sz="3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4.81 x 78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908.2 ÷ 8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0.082 x 14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71.56 ÷ 9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Section 4.3 – Add and Subtract Decimals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to accurately add and subtract decimals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amples:  We must always line up the decimals by the decimal point and write zeros in any “empty” place value.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6.02 + 4.9  we write a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8.284 – 3.53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we write as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5 + 2.859 we write a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1.) 3.76 + b 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2.) a – 1.395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3.) a + c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4.) 12.38 - b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Verdana"/>
              </a:rPr>
              <a:t>You should estimate to see if your answers are reasonable…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amuel adds the following three numbers:  5.41,  12,  9.2  and arrives at an answer of 14.73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-208440">
              <a:spcBef>
                <a:spcPts val="7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Part A: Is this answer correct? 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-208440">
              <a:spcBef>
                <a:spcPts val="7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Part B: Use what you know about decimal addition to explain how you came to your conclusion?  Use words and/or numbers in your explanation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try algebra style for a challenge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 on Decimal Concept (Adding Included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Chad Miller</cp:lastModifiedBy>
  <dcterms:modified xsi:type="dcterms:W3CDTF">2008-08-03T00:35:20Z</dcterms:modified>
  <cp:revision>22</cp:revision>
  <dc:subject/>
  <dc:title>Unit 1 – Variables and Equations </dc:title>
</cp:coreProperties>
</file>